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F5024-EE2C-4D2A-894E-9E3131ED2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922-7BDE-4B90-8F3C-DA990928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B20-63BB-4CCF-8F6C-B5B9A50B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EAE-71A5-4D10-8EB9-E2D1943F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A8A-101C-49CA-802C-7EF54118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083-842A-4691-87B0-883C4C96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EFC-288B-4DDB-A16D-6476C17B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851-2CFC-409C-ADAC-349E02AC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FBE-B60A-4A25-A288-083477E1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E72-722F-4C40-8F08-A466CA6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2AA-F23E-4AE3-A310-CD4FBEA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027-4118-4C21-8BF6-DBC20D18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23A-F435-4822-84CF-E36B4EE1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27829-CAF3-40AF-AF53-E89E4E813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6160" y="109440"/>
            <a:ext cx="4883040" cy="6748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2688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57200"/>
            <a:ext cx="2286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83080" y="22860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12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514600"/>
            <a:ext cx="2286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StarSymbol"/>
                <a:ea typeface="StarSymbol"/>
              </a:rPr>
              <a:t>†</a:t>
            </a:r>
            <a:r>
              <a:rPr b="0" lang="en-US" sz="2400" spc="-1" strike="noStrike">
                <a:solidFill>
                  <a:srgbClr val="2323dc"/>
                </a:solidFill>
                <a:latin typeface="Bauhaus 93"/>
              </a:rPr>
              <a:t>With all I have going on in life,  I have to remember to make things simpler and get back to God and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6603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My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629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86400" y="2286000"/>
            <a:ext cx="2743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StarSymbol"/>
                <a:ea typeface="StarSymbol"/>
              </a:rPr>
              <a:t>†</a:t>
            </a:r>
            <a:r>
              <a:rPr b="0" lang="en-US" sz="2400" spc="-1" strike="noStrike">
                <a:solidFill>
                  <a:srgbClr val="2323dc"/>
                </a:solidFill>
                <a:latin typeface="Bauhaus 93"/>
              </a:rPr>
              <a:t>With all I have going on in life,  I have to remember to enjoy the things that make this life worth living:  My three kiddos-- Katelin, Kayley, and Dav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My J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8840" y="914040"/>
            <a:ext cx="2514600" cy="94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StarSymbol"/>
                <a:ea typeface="StarSymbol"/>
              </a:rPr>
              <a:t>†</a:t>
            </a:r>
            <a:r>
              <a:rPr b="0" lang="en-US" sz="2400" spc="-1" strike="noStrike">
                <a:solidFill>
                  <a:srgbClr val="2323dc"/>
                </a:solidFill>
                <a:latin typeface="Bauhaus 93"/>
              </a:rPr>
              <a:t>With all I have going on in         life,  I have to remember to take things one day at a time, especially in my 17 years of teaching m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756080" y="2286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My Hob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971440"/>
            <a:ext cx="297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StarSymbol"/>
                <a:ea typeface="StarSymbol"/>
              </a:rPr>
              <a:t>†</a:t>
            </a:r>
            <a:r>
              <a:rPr b="0" lang="en-US" sz="2400" spc="-1" strike="noStrike">
                <a:solidFill>
                  <a:srgbClr val="2323dc"/>
                </a:solidFill>
                <a:latin typeface="Bauhaus 93"/>
              </a:rPr>
              <a:t>With all I have going on in life,  I have to remember to enjoy the things that help me relieve my stress:  working out, playing indoor soccer and scrapbo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4114800"/>
            <a:ext cx="3657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Laura Fa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3:17:34Z</dcterms:created>
  <dc:creator/>
  <dc:description/>
  <dc:language>en-US</dc:language>
  <cp:lastModifiedBy/>
  <cp:revision>1</cp:revision>
  <dc:subject/>
  <dc:title/>
</cp:coreProperties>
</file>